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39600"/>
            <a:ext cx="29718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assical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095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5791320" y="6191280"/>
            <a:ext cx="914400" cy="2095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6858000" y="6172200"/>
            <a:ext cx="10476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endshow"/>
          </p:cNvPr>
          <p:cNvSpPr/>
          <p:nvPr/>
        </p:nvSpPr>
        <p:spPr>
          <a:xfrm>
            <a:off x="8077320" y="6172200"/>
            <a:ext cx="74268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80980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in Idea / Reading Foc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eek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ick Facts: Greek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eek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eek Architecture and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Greek Achie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Forms of Po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65948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s wrote many types of poetry besides e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siod wrote descriptive poetry about works of gods, lives of pea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ks also cre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yric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d after the lyre, musical instrument often played to accompany reading of po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ric poems do not tell stories, but deal with emotions, des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ric poe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pho, one of few Greek women to gain fame as writer; dealt with daily life, marriage,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dar, late 500s, early 400s; poems commemorated public events, like Olympic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143000"/>
            <a:ext cx="8229600" cy="17611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ng fields for which Greeks best kn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k authors wrote about and analyzed own p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ajor Greek historia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odo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in Greece during wars with Persia; described battles and public debat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Hi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3003480"/>
            <a:ext cx="4038120" cy="2939760"/>
            <a:chOff x="457200" y="3003480"/>
            <a:chExt cx="4038120" cy="2939760"/>
          </a:xfrm>
        </p:grpSpPr>
        <p:sp>
          <p:nvSpPr>
            <p:cNvPr id="94" name=""/>
            <p:cNvSpPr/>
            <p:nvPr/>
          </p:nvSpPr>
          <p:spPr>
            <a:xfrm>
              <a:off x="457200" y="3517560"/>
              <a:ext cx="4038120" cy="24256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ucydid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lived during Peloponnesian War, wrote about 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luded primary sources, like speeches he heard delive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oked at sources critically, ignored unreliable, irrelevant 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" y="3003480"/>
              <a:ext cx="4038120" cy="5140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mary 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48320" y="3003480"/>
            <a:ext cx="4038120" cy="2939760"/>
            <a:chOff x="4648320" y="3003480"/>
            <a:chExt cx="4038120" cy="2939760"/>
          </a:xfrm>
        </p:grpSpPr>
        <p:sp>
          <p:nvSpPr>
            <p:cNvPr id="97" name=""/>
            <p:cNvSpPr/>
            <p:nvPr/>
          </p:nvSpPr>
          <p:spPr>
            <a:xfrm>
              <a:off x="4648320" y="3517560"/>
              <a:ext cx="4038120" cy="24256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other early historian, Xenoph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ught in Persia after Persian W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centrated less on sources, debates, more on describing famous men; had less critical sty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k has helped us learn what life was like in 300s BC Gree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3003480"/>
              <a:ext cx="4038120" cy="5140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escribing Famous 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1219320"/>
            <a:ext cx="8076960" cy="7038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 Greeks wrote histories to preserve the past, they created a new form of writing for entertainment—drama, the art of playwri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520" y="2031840"/>
            <a:ext cx="3885840" cy="3911400"/>
            <a:chOff x="533520" y="2031840"/>
            <a:chExt cx="3885840" cy="3911400"/>
          </a:xfrm>
        </p:grpSpPr>
        <p:sp>
          <p:nvSpPr>
            <p:cNvPr id="102" name=""/>
            <p:cNvSpPr/>
            <p:nvPr/>
          </p:nvSpPr>
          <p:spPr>
            <a:xfrm>
              <a:off x="533520" y="2452680"/>
              <a:ext cx="3885840" cy="34905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rliest dramas part of festiv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onysus, god of wine and celeb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oup of actors called a chor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ited stori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20" y="2031840"/>
              <a:ext cx="3885840" cy="4208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thenian Roo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724280" y="2031840"/>
            <a:ext cx="3885840" cy="3911400"/>
            <a:chOff x="4724280" y="2031840"/>
            <a:chExt cx="3885840" cy="3911400"/>
          </a:xfrm>
        </p:grpSpPr>
        <p:sp>
          <p:nvSpPr>
            <p:cNvPr id="105" name=""/>
            <p:cNvSpPr/>
            <p:nvPr/>
          </p:nvSpPr>
          <p:spPr>
            <a:xfrm>
              <a:off x="4724280" y="2452680"/>
              <a:ext cx="3885840" cy="34905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amas became more 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dividual actors took on roles of specific characters in sto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o distinct forms of dramas developed, tragedy and come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24280" y="2031840"/>
              <a:ext cx="3885840" cy="4208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ct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0" y="1143000"/>
            <a:ext cx="4114800" cy="4724280"/>
            <a:chOff x="4572000" y="1143000"/>
            <a:chExt cx="4114800" cy="4724280"/>
          </a:xfrm>
        </p:grpSpPr>
        <p:sp>
          <p:nvSpPr>
            <p:cNvPr id="110" name=""/>
            <p:cNvSpPr/>
            <p:nvPr/>
          </p:nvSpPr>
          <p:spPr>
            <a:xfrm>
              <a:off x="4572000" y="1143000"/>
              <a:ext cx="4114800" cy="50796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572000" y="1182600"/>
              <a:ext cx="4114800" cy="4684680"/>
              <a:chOff x="4572000" y="1182600"/>
              <a:chExt cx="4114800" cy="4684680"/>
            </a:xfrm>
          </p:grpSpPr>
          <p:sp>
            <p:nvSpPr>
              <p:cNvPr id="112" name=""/>
              <p:cNvSpPr/>
              <p:nvPr/>
            </p:nvSpPr>
            <p:spPr>
              <a:xfrm>
                <a:off x="4572000" y="1650960"/>
                <a:ext cx="4114800" cy="4216320"/>
              </a:xfrm>
              <a:prstGeom prst="rect">
                <a:avLst/>
              </a:prstGeom>
              <a:solidFill>
                <a:srgbClr val="e2f4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8600" indent="-22860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ny comedies were satires, plays written to expose flaws of society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Arial"/>
                  </a:rPr>
                  <a:t>Aristophanes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greatest Greek comedy write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lays poke fun at aspects of Athenian society, from government to treatment of wome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48320" y="1182600"/>
                <a:ext cx="403848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33280" indent="-233280" algn="ctr">
                  <a:lnSpc>
                    <a:spcPct val="11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Comed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457200" y="1143000"/>
            <a:ext cx="3962160" cy="4723920"/>
            <a:chOff x="457200" y="1143000"/>
            <a:chExt cx="3962160" cy="4723920"/>
          </a:xfrm>
        </p:grpSpPr>
        <p:grpSp>
          <p:nvGrpSpPr>
            <p:cNvPr id="115" name=""/>
            <p:cNvGrpSpPr/>
            <p:nvPr/>
          </p:nvGrpSpPr>
          <p:grpSpPr>
            <a:xfrm>
              <a:off x="457200" y="1143000"/>
              <a:ext cx="3962160" cy="4723920"/>
              <a:chOff x="457200" y="1143000"/>
              <a:chExt cx="3962160" cy="4723920"/>
            </a:xfrm>
          </p:grpSpPr>
          <p:sp>
            <p:nvSpPr>
              <p:cNvPr id="116" name=""/>
              <p:cNvSpPr/>
              <p:nvPr/>
            </p:nvSpPr>
            <p:spPr>
              <a:xfrm>
                <a:off x="457200" y="1651320"/>
                <a:ext cx="3962160" cy="4215600"/>
              </a:xfrm>
              <a:prstGeom prst="rect">
                <a:avLst/>
              </a:prstGeom>
              <a:solidFill>
                <a:srgbClr val="80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31840" indent="-23184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Focused on hardships faced by Greek heroes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Three great writer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571680" indent="-22572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Aeschylus, Greek myth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571680" indent="-22572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Sophocles, suffering people brought on selve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571680" indent="-22572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Euripides, tragedy brought on by chance, behavio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" y="1143000"/>
                <a:ext cx="3962160" cy="508320"/>
              </a:xfrm>
              <a:prstGeom prst="rect">
                <a:avLst/>
              </a:prstGeom>
              <a:solidFill>
                <a:srgbClr val="80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5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Aft>
                    <a:spcPts val="15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57200" y="1182600"/>
              <a:ext cx="3886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rage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3720" y="1222200"/>
            <a:ext cx="8229600" cy="2590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forms of writing did the Greeks exc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5520" y="4032360"/>
            <a:ext cx="8153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pics, history, poetry, d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14300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a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henians enjoyed beauty, both written and 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ed love of written beauty through literature; visual beauty through architecture, ar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58128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hance appearance of buildings, added fine works of art, painted and scul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t buildings built on acropolis, at city’s cen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14300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henians wanted their city to be most beautiful in Gre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magnificent temples, theatres, public building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358128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h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agnificent on acropo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ive temple to Ath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un by Pericles, 447 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k 14 years to 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Architecture and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Architecture and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henon impressive not for sheer size, but for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careful not to make too tall, too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henon more than 200 feet long, 100 feet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doors, no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rounded by tall, graceful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columns, slabs of marble carved with scenes from my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ins appear white today, but parts originally painted in vivid h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gold, ivory statue of Athena stood inside Parthe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143000"/>
            <a:ext cx="8229600" cy="14886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uman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k sculptors among finest world has ever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ly adept at sculpting human form; studied people at rest, mo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d to re-create what they saw, paid particular attention to mus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343400"/>
            <a:ext cx="8229600" cy="148860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man Cop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original works remain; most copies made a few hundred years 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 artists made many copies of greatest Greek stat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opies survived even after original statues destr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743200"/>
            <a:ext cx="8229600" cy="148860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felike, Not Real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ks wanted statues to look lifelike, active, not necessarily real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rayed subjects as physically perfect, without blemishes, imper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k statues almost all depict figures of great beauty, g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ul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352680"/>
            <a:ext cx="8229600" cy="24922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Pain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evidence of larger works; written sources say Greeks created murals in many public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included scenes from Iliad, Odyssey; showed aftermath of battles, rather than battle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 similar to tragic drama popular with Athen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914400"/>
            <a:ext cx="8229600" cy="2346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few original Greek paintings surv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preserved are paintings on vases, plates, other ve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es from everyday life, or from myths, leg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 only red, black; still convey movement,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440" y="847800"/>
            <a:ext cx="8229600" cy="26654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Genera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some characteristics of Greek architecture and 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120" y="3592440"/>
            <a:ext cx="81532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chitecture—proportion, columns, vivid colors; art—idealistic sculpture depicting the human form; red and black vessels with scenes conveying movement and depth; murals and wall pain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Greek philosophy influence later thinking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types of literature did the Greeks creat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ere the aims of Greek art and architectur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ncient Greeks made great achievements in philosophy, literature, art, and architecture that influenced the development of later cultures and ide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Achie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143000"/>
            <a:ext cx="8076960" cy="100872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their condemnation of Socrates, the people of ancient Greece were great believers in philosophy. 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ilosop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self comes from the Greek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ilosoph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eaning “the love of wisdom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3520" y="2209680"/>
            <a:ext cx="2590560" cy="3733560"/>
            <a:chOff x="533520" y="2209680"/>
            <a:chExt cx="2590560" cy="3733560"/>
          </a:xfrm>
        </p:grpSpPr>
        <p:sp>
          <p:nvSpPr>
            <p:cNvPr id="52" name=""/>
            <p:cNvSpPr/>
            <p:nvPr/>
          </p:nvSpPr>
          <p:spPr>
            <a:xfrm>
              <a:off x="533520" y="2611440"/>
              <a:ext cx="2590560" cy="33318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rliest philosophy traced to 500s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ched height in Athens during 400s, 300s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spired by greatest philosophers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rate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t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istot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2209680"/>
              <a:ext cx="2590560" cy="4017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76720" y="2209680"/>
            <a:ext cx="2590560" cy="3733560"/>
            <a:chOff x="3276720" y="2209680"/>
            <a:chExt cx="2590560" cy="3733560"/>
          </a:xfrm>
        </p:grpSpPr>
        <p:sp>
          <p:nvSpPr>
            <p:cNvPr id="55" name=""/>
            <p:cNvSpPr/>
            <p:nvPr/>
          </p:nvSpPr>
          <p:spPr>
            <a:xfrm>
              <a:off x="3276720" y="2611440"/>
              <a:ext cx="2590560" cy="33318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rst great Athenian philoso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ttle known of his personal li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dents’ writings, including Plato’s, put forth his ide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76720" y="2209680"/>
              <a:ext cx="2590560" cy="4017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oc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9920" y="2209680"/>
            <a:ext cx="2590560" cy="3733560"/>
            <a:chOff x="6019920" y="2209680"/>
            <a:chExt cx="2590560" cy="3733560"/>
          </a:xfrm>
        </p:grpSpPr>
        <p:sp>
          <p:nvSpPr>
            <p:cNvPr id="58" name=""/>
            <p:cNvSpPr/>
            <p:nvPr/>
          </p:nvSpPr>
          <p:spPr>
            <a:xfrm>
              <a:off x="6019920" y="2611440"/>
              <a:ext cx="2590560" cy="33318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ritings give clear picture of Socrates’s thoughts and how he taugh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rates interested in broad concepts of human life—truth, justice, virt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9920" y="2209680"/>
              <a:ext cx="2590560" cy="4017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road Concep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Philos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62" name="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y working through series of questions, Socrates thought people could discover basic nature of li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thod of learning through questions called the Socratic met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ocratic Meth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65" name="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rates believed philosophers could learn what made good people, societies by asking ques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rted with basic questions, like “What is truth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rates followed up with more ques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sking Ques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ilosophy of Soc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276720"/>
            <a:ext cx="8229600" cy="265104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 of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osophers most qualified to make good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not support Athenian democracy in which all men could take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o wanted to make philosopher’s education more 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the Academy, which in Plato’s lifetime became most important site for Greek philosophers to do their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914400"/>
            <a:ext cx="8229600" cy="21873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Socrates’ students, became great philosopher in own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 behind great number of writings that record ideas on wide variety of topics, from nature of truth to ideal form of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e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gues that government should be led by philosop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43000"/>
            <a:ext cx="8229600" cy="15778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Third Philos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totle was among students who studied at the Acade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cerned with nature of world that surrounded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d to apply philosophical principles to every kind of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343400"/>
            <a:ext cx="8229600" cy="146340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ferring New 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totle also helped develop fiel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cess of making in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birds have feathers, lay eggs; owls have feathers, lay eggs; therefore, owl must be a type of bi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743200"/>
            <a:ext cx="8229600" cy="15778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mphasis on Reason and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reason,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lear and ordered thinking; use reason to learn about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carefully, think rationally about what one has s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93760" y="646200"/>
            <a:ext cx="4954680" cy="52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4200" y="1512720"/>
            <a:ext cx="8229600" cy="25545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greatest philosophers of ancient Gree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1480" y="4381560"/>
            <a:ext cx="8153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crates, Plato, and Aristo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546880"/>
            <a:ext cx="8229600" cy="3988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works became basis for the Greek education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143000"/>
            <a:ext cx="8229600" cy="10087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Greek literature remains, with a great many works still popular today. Greeks excelled in poetry—both epics and other forms—history, and d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" y="2220840"/>
            <a:ext cx="4038120" cy="3233160"/>
            <a:chOff x="457200" y="2220840"/>
            <a:chExt cx="4038120" cy="3233160"/>
          </a:xfrm>
        </p:grpSpPr>
        <p:sp>
          <p:nvSpPr>
            <p:cNvPr id="84" name=""/>
            <p:cNvSpPr/>
            <p:nvPr/>
          </p:nvSpPr>
          <p:spPr>
            <a:xfrm>
              <a:off x="457200" y="2786040"/>
              <a:ext cx="4038120" cy="266796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st famous works are some of earli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 poems of great events and hero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liad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th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dysse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attributed to poet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m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tell stories of Trojan W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2220840"/>
              <a:ext cx="4038120" cy="5652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omer’s Ep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648320" y="2220840"/>
            <a:ext cx="4038120" cy="3233160"/>
            <a:chOff x="4648320" y="2220840"/>
            <a:chExt cx="4038120" cy="3233160"/>
          </a:xfrm>
        </p:grpSpPr>
        <p:sp>
          <p:nvSpPr>
            <p:cNvPr id="88" name=""/>
            <p:cNvSpPr/>
            <p:nvPr/>
          </p:nvSpPr>
          <p:spPr>
            <a:xfrm>
              <a:off x="4648320" y="2786040"/>
              <a:ext cx="4038120" cy="266796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lia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ells story of last year of war, two heroe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—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hilles and H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dysse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lls story of heroes from the war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th Odysseus who was forced to wander the 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48320" y="2220840"/>
              <a:ext cx="4038120" cy="5652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liad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dyss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cpagliaro</cp:lastModifiedBy>
  <cp:lastPrinted>2005-02-01T16:21:45Z</cp:lastPrinted>
  <dcterms:modified xsi:type="dcterms:W3CDTF">2010-12-01T15:19:01Z</dcterms:modified>
  <cp:revision>267</cp:revision>
  <dc:subject/>
  <dc:title>PowerPoint Presentation</dc:title>
</cp:coreProperties>
</file>